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CB80-E87B-47E1-928C-A0E4C12D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8053-93A0-42CC-AA7A-51E85FA6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39A9-51E0-4AB9-927B-F29F86D7B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545F-E3AE-428B-8CFF-BF16B9486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35E8-15A5-467A-87F9-094326D2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3F63-D60F-4B24-BE03-1A927A7D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3392-3EC2-477E-85DE-8373B2C0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43C1-A0C6-417B-95ED-68815537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6E21-5A50-4834-B50E-DC78279A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AFEC-008A-48B8-9722-8865A8C0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0A4A-4521-4B69-8AFA-3968C74A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2328-BF12-444F-ABC7-1A7E6DAA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22AD-9D53-418F-AAF5-799F01A064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2362320"/>
            <a:ext cx="6279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fferentia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isclassific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01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15200" cy="2590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7315200" cy="685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38080" y="4191120"/>
            <a:ext cx="73915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15200" cy="2590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7315200" cy="533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14400" y="3962520"/>
            <a:ext cx="7162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772400" cy="4419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7772400" cy="838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38080" y="4724280"/>
            <a:ext cx="77724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696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5715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95680" y="503280"/>
            <a:ext cx="362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se- control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8487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2210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78487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84872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7848720" cy="533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600200" y="4343400"/>
            <a:ext cx="6095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848720" cy="2971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784872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752480" y="4114800"/>
            <a:ext cx="5867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848720" cy="2743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5800" y="3048120"/>
            <a:ext cx="784872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5800" y="3657600"/>
            <a:ext cx="7924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9T20:09:28Z</dcterms:modified>
  <cp:revision>215</cp:revision>
  <dc:subject/>
  <dc:title>Slide 1</dc:title>
</cp:coreProperties>
</file>